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38020"/>
        <c:axId val="12059215"/>
      </c:barChart>
      <c:catAx>
        <c:axId val="64638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9215"/>
        <c:crosses val="autoZero"/>
        <c:auto val="1"/>
        <c:lblAlgn val="ctr"/>
        <c:lblOffset val="100"/>
        <c:noMultiLvlLbl val="0"/>
      </c:catAx>
      <c:valAx>
        <c:axId val="12059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8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15F-06EF-4235-A2F1-5D025FBB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C81-A9D6-4C2A-B669-8947629A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1BD-788F-4B74-9DA2-F5DC6967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8BE-1ED3-4A54-B359-B1FDB64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D48-4BEC-4F88-8EEE-FA573ED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96D-7E62-41B3-B88F-6D39786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F52-399C-479C-AD96-FA62080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167-0C88-4BF9-8DCB-3D82EBB5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08D-302B-424C-BCFB-CE634BC7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DD2-03FA-4DEE-ABDE-B7D96AE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88E-6681-4C2E-8C7B-CDBAAD8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DF7-D537-45E9-A6A7-619550A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EAB01-D074-4E49-B976-187214384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